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E5C6-E8BD-4A18-802E-4FB4152D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5B0F-96C1-46D2-9CBB-5056B887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6C36-A801-4EAE-B01A-0F66A8C3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7B56-45F8-4F2C-A8B1-E0A4F4D2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C7E2-B79D-4EF0-8921-9E446DFA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3A8F-E90F-44A8-A022-0086CA45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2C70-A84F-409B-87AA-3634C53C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5791-8165-4ABE-B5BD-7E033B5A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C906-01DE-4CD0-BA04-3A4C81A9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7217-1590-4E53-A218-D3B947D6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583D-019E-4533-8F12-D7FD5AC9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D906-EB25-42EB-A94D-7B278F72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4694-0C66-41D1-89AC-31D2EE7A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9522-AAA8-4BFD-989E-0B433A4F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5E51-A505-4F6C-9170-B3781292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0811-7A77-4E31-9C25-B8A7DC8D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8F16-41DA-40EE-B61E-6271FBFD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74E1-7A72-4891-A606-81D31795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6175-FC3E-4EDB-8798-D9F0DCF0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4AA5-45AC-42EF-9162-0BF4BBEC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157B-37ED-4992-84EA-DBA1120A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F8D9-DE38-4100-82C8-FD37A1D4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62CE-2873-4221-A179-23101D4E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79FA-7569-4E99-AD57-91B08BFA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8F0F-BB5B-43F2-9DFE-E22522ACECD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803A-5998-41BD-BFB8-1D0CBEB7342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enesis 28:10  - 30:4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jor Poi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14480" y="1314360"/>
            <a:ext cx="736740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jor Poi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thel: Jacob’s Vision And “House of God” Experience. 28:10-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cob Resumes His Journey And Meets Rachel. 29:1-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cob Is Warmly Received. 29:13,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cob Loves Rachel And Works Hard to Get Her. 29:15-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cob Is Deceived By Laban. 29:21-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jor Poi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h Bears Children, Rachel Is Barren. 29:3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h’s S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uben = See, A 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eon = He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vi = Attac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ah = Pra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jor Poi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rth Of Others of the Patriarchs -30:1-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lhah, Rachels Handmaid Bo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n = Jud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phtali = My Wrest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lpah, Leah’s Handmaid bo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d =Troop or Fortu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jor Poi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lpah Also Bo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her = Hap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h Again Bo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sachar =W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ebulun = Dwel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Daughter: Din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jor Poi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hel Finally Bo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eph = He Will Ad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cob’s Agreement With Laban, And His Special Blessings – 30:25-4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03:41:50Z</dcterms:created>
  <dc:creator>Terry W. Benton</dc:creator>
  <dc:description/>
  <dc:language>en-US</dc:language>
  <cp:lastModifiedBy>Terry W. Benton</cp:lastModifiedBy>
  <dcterms:modified xsi:type="dcterms:W3CDTF">2004-09-01T17:21:37Z</dcterms:modified>
  <cp:revision>4</cp:revision>
  <dc:subject/>
  <dc:title>Genesis 28:10  - 30:43</dc:title>
</cp:coreProperties>
</file>